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7FCC-E654-4969-9B62-C661C494B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John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chemistry M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 M Science Symposium his favorit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E258-A66C-47D3-B96C-626E7D6D7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6C9-6493-4FE7-83D9-F298BFA2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7B8-6BE1-4459-8F2A-9F514BA5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7A6-4F69-43EB-B80B-BEC4454F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B1C-5512-4393-AB87-08CECEBB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1E4-4058-41D6-9EF3-34422817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8893-FA51-4A4C-9225-9AE069D9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296D-7449-48DB-88F5-F70B68BD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765B-569A-4EA1-8128-FF163F0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A86B-185D-42C5-A406-BB4A3062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D512-D6FB-473D-AA89-8B08409E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C072-B9F2-498F-ACD0-F925E25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DDE-B302-4D7B-BF22-EB39DA3E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665E-9E79-440D-93A6-0F28741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8456-6479-4EEA-9E4D-B99141C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421-EC2C-4935-8874-0BF2A4F0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D43-B1F7-4B8E-BA65-4DB39E52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480-F9F9-45BE-8276-825A0557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C56D-2FC6-49FB-8283-F5A36319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6BB8-96F1-4297-A237-2E051782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7ACD-D76C-46E5-B254-33FA45E6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115C-19FC-48EF-B631-94208C4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590D-0009-42B2-A68E-A93F8ED2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9CD-7F9A-4D09-B3EE-8120E1DA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799A-66F7-4C39-9F6E-59B18C60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2D54-18D1-4790-AD5C-D2165A76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7126-1C23-4270-B4A9-41D6F21F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90C7-2DE6-4042-BE51-A248EA28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513E-FD32-4286-A659-7E99E2CF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C3F9-5964-42D4-905B-616C6385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3B75-0A94-48AB-B05B-75AD69E5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F86C-9D64-4854-A0C2-5717D4CF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00A5-01C9-41C3-8A00-265FCA36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D063-CBA3-46E7-AF59-4B5E74C5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02E-0BF6-455A-B02C-24322F6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E661-AC6E-49F9-A7A6-B202C016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756E-97B8-4296-BDB3-3E6DAE1E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ECFC-8249-4571-8B32-7FA26CD6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5ED5-AFDE-489F-B1BE-6B92E3D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D0D73-5951-493C-83CB-6A39B749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4C4F-D4D5-46A7-AF80-6DF2A79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08F8-B714-49D4-8604-DC7450A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E027-0CA2-4F3A-BF98-1A2FE927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4644-DBBA-41D6-90CE-8027AE17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2596-7B0D-4B5C-A275-B1C0AA9E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70C-C65C-48C1-9710-E18E44C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8794-F117-488B-9A51-AEC507A9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E357-560B-4B1A-A590-1D72097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E221E-1F9F-46E4-A2D6-B60EDA8E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6E2B-4E4F-469B-9BD8-9E978DA4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6B78-997C-440E-B05F-A2947D7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A306F-4C80-45FC-AFA2-3578B0F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B8A9A-BF49-49D4-93E6-4E69036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1BFD-A516-4575-917C-C20CB1C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136B-8633-41DC-89D3-4F6D01D6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8BCD6-5BF0-4A15-A93B-1622879D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4A9-A53E-447D-9FC7-593219BA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1FF2-E05F-428A-A278-DB609F45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BAD-2B68-4462-B615-06BA4B8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BD0-EFD9-46B1-B051-695E9FB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ACA-47F6-4792-942C-F3CD34D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6E79-D436-4448-9600-B250A5EB453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592B-9325-4710-A64A-74816C5292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8AA2-DCBD-4DE9-ACC5-A24CA5D3E0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AFC7-0EE0-48C1-8FBA-6A89F001A6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8532-7D29-466C-B552-DEB18804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Black_Lotus_Flower_IMGP7691-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: Science, Technology, Engineering, and Mathema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591480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ing Students for their Future Car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7240" y="648828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©Bahman Farzad / lotusflowerimages.co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419040"/>
            <a:ext cx="8839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200"/>
                </a:solidFill>
                <a:latin typeface="Adobe Garamond Pro Bold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dobe Garamond Pro Bold"/>
              </a:rPr>
              <a:t>The BCS STEM Program will provide </a:t>
            </a:r>
            <a:r>
              <a:rPr b="1" lang="en-US" sz="3200" spc="-1" strike="noStrike" u="sng">
                <a:solidFill>
                  <a:srgbClr val="663300"/>
                </a:solidFill>
                <a:uFillTx/>
                <a:latin typeface="Adobe Garamond Pro Bold"/>
              </a:rPr>
              <a:t>ALL</a:t>
            </a:r>
            <a:r>
              <a:rPr b="1" lang="en-US" sz="3200" spc="-1" strike="noStrike">
                <a:solidFill>
                  <a:srgbClr val="663300"/>
                </a:solidFill>
                <a:latin typeface="Adobe Garamond Pro Bold"/>
              </a:rPr>
              <a:t> Blount County students with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Solid STEM coursework foundation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Collaborative problem solving Experien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Research and Internship Opportuniti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The Challenge to Solve Non-routine Problem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380880" y="-198000"/>
            <a:ext cx="8763120" cy="70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  <a:ea typeface="Times New Roman"/>
              </a:rPr>
              <a:t>HHS STEM TEAM’S Phase 1 GOAL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Establish paths of study for STEM endorseme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Gauge faculty, community, and student interes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through survey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Write a mission statement and goals for the progra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Propose a timeline for implement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Identify potential sources of funding and resources through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Regional Business Partnership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dobe Garamond Pro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"/>
                <a:ea typeface="Times New Roman"/>
              </a:rPr>
              <a:t>Pilot a STEM program for HHS and BC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3300"/>
                </a:solidFill>
                <a:latin typeface="Adobe Garamond Pro Bold"/>
              </a:rPr>
              <a:t>Proposed Paths of Study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371240"/>
            <a:ext cx="746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Advanced Health Occupa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Health and Life Scien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Advanced Pre-Engineer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3300"/>
                </a:solidFill>
                <a:latin typeface="Garamond"/>
              </a:rPr>
              <a:t>Pre-Engineering Applications, Drafting, and Desig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dobe Garamond Pro"/>
              </a:rPr>
              <a:t>Thinkers and doers reacting organically collaborating for su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73160" y="1773360"/>
          <a:ext cx="8746920" cy="4514760"/>
        </p:xfrm>
        <a:graphic>
          <a:graphicData uri="http://schemas.openxmlformats.org/drawingml/2006/table">
            <a:tbl>
              <a:tblPr/>
              <a:tblGrid>
                <a:gridCol w="955440"/>
                <a:gridCol w="955800"/>
                <a:gridCol w="955800"/>
                <a:gridCol w="957240"/>
                <a:gridCol w="939600"/>
                <a:gridCol w="1035000"/>
                <a:gridCol w="1035360"/>
                <a:gridCol w="955440"/>
                <a:gridCol w="957240"/>
              </a:tblGrid>
              <a:tr h="253800">
                <a:tc gridSpan="9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s/AP   PRE-Engine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538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. 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.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IA 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IB 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&amp; S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al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.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 Cal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V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 I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.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 Sc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Geo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Hist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Hist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t 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 rowSpan="2"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s of Engine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 Cap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n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/ P. F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Ar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 rowSpan="3">
                  <a:txBody>
                    <a:bodyPr lIns="10080" rIns="10080" tIns="100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AP English may replace Honors English,  Can CAD satisfy Comp Apps?  Can CAD2 satisy F.Arts?  Do we need to include Trig/Adv.Alg?  Eng.II H and W.Hist H are taught during the same semest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0080" marR="100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TextBox 3"/>
          <p:cNvSpPr/>
          <p:nvPr/>
        </p:nvSpPr>
        <p:spPr>
          <a:xfrm>
            <a:off x="685800" y="9144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vanced   PRE-Engineering Pathwa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11240" y="1828800"/>
          <a:ext cx="8872560" cy="3997440"/>
        </p:xfrm>
        <a:graphic>
          <a:graphicData uri="http://schemas.openxmlformats.org/drawingml/2006/table">
            <a:tbl>
              <a:tblPr/>
              <a:tblGrid>
                <a:gridCol w="969840"/>
                <a:gridCol w="969840"/>
                <a:gridCol w="968400"/>
                <a:gridCol w="970200"/>
                <a:gridCol w="954000"/>
                <a:gridCol w="1050840"/>
                <a:gridCol w="1049400"/>
                <a:gridCol w="969840"/>
                <a:gridCol w="970200"/>
              </a:tblGrid>
              <a:tr h="254160">
                <a:tc gridSpan="9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Engineering CAD and DESIG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er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. I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 II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te Ma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.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 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. S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Geograph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Hist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 rowSpan="2"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Lang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s of Engine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 Cap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C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n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/ P. F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Ar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2"/>
          <p:cNvSpPr/>
          <p:nvPr/>
        </p:nvSpPr>
        <p:spPr>
          <a:xfrm>
            <a:off x="304920" y="10764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-Engineering CAD and Design Pathwa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Inclusive program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Fine arts CTE Core Academic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Trans-disciplinary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Technology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Initail requests $ PD Early out tim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Current sponsors****** logos 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Roane state TVA BCEF Blount Memorial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59200"/>
                </a:solidFill>
                <a:latin typeface="Adobe Garamond Pro Bold"/>
              </a:rPr>
              <a:t>Current Spons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314800" cy="409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676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STEM Clips1.wmv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7010280" cy="4876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846000" y="206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200"/>
                </a:solidFill>
                <a:latin typeface="Arial"/>
              </a:rPr>
              <a:t>Do We Need a STEM Program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92160" y="19080"/>
            <a:ext cx="90583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912240"/>
            <a:ext cx="912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"</a:t>
            </a:r>
            <a:r>
              <a:rPr b="1" i="1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It's kind of fun to do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the impossible."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959200"/>
                </a:solidFill>
                <a:latin typeface="Adobe Garamond Pro Bold"/>
                <a:ea typeface="Arial"/>
              </a:rPr>
              <a:t>- Walt Disney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84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63300"/>
                </a:solidFill>
                <a:latin typeface="Garamond"/>
              </a:rPr>
              <a:t>BLOUNT COUNTY STEM </a:t>
            </a:r>
            <a:r>
              <a:rPr b="1" lang="en-US" sz="4700" spc="-1" strike="noStrike">
                <a:solidFill>
                  <a:srgbClr val="663300"/>
                </a:solidFill>
                <a:latin typeface="Garamond"/>
              </a:rPr>
              <a:t>INITIATIV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63300"/>
                </a:solidFill>
                <a:latin typeface="Garamond"/>
              </a:rPr>
              <a:t>at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63300"/>
                </a:solidFill>
                <a:latin typeface="Garamond"/>
              </a:rPr>
              <a:t>Heritage High Schoo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457200" y="990720"/>
          <a:ext cx="8547120" cy="4665600"/>
        </p:xfrm>
        <a:graphic>
          <a:graphicData uri="http://schemas.openxmlformats.org/drawingml/2006/table">
            <a:tbl>
              <a:tblPr/>
              <a:tblGrid>
                <a:gridCol w="1555920"/>
                <a:gridCol w="6991200"/>
              </a:tblGrid>
              <a:tr h="4016160"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Matthew McConnell, C.J. Williams, Chris Neal, Kati Messer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Mark Andrews, Mary Cooper, Sam Warwick, Mark Rowland, Justin Lane, Kendall Terry, Julie Bell, Brooke Everett, Lisa Collins, Jared Smith, Colleen Mattison, Shane Rewis, Brad </a:t>
                      </a: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Rasmus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Phil Johnson, Robert Tay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W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 Black"/>
                          <a:ea typeface="Times New Roman"/>
                        </a:rPr>
                        <a:t>Bi-monthly meet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Rectangle 1"/>
          <p:cNvSpPr/>
          <p:nvPr/>
        </p:nvSpPr>
        <p:spPr>
          <a:xfrm>
            <a:off x="0" y="241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HHS STEM TEA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rcRect l="9688" t="14003" r="36502" b="20003"/>
          <a:stretch/>
        </p:blipFill>
        <p:spPr>
          <a:xfrm>
            <a:off x="655560" y="517680"/>
            <a:ext cx="76964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4465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rcRect l="12720" t="27349" r="11882" b="29239"/>
          <a:stretch/>
        </p:blipFill>
        <p:spPr>
          <a:xfrm>
            <a:off x="914400" y="4419720"/>
            <a:ext cx="762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380880" y="990720"/>
            <a:ext cx="868068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dobe Garamond Pro Bold"/>
              </a:rPr>
              <a:t>STEM PROGRAM MISSION STAT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To insure our graduates are critical thinkers who are able to solve non-routine problems in a globally competitive society.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dobe Garamond Pro Bold"/>
              </a:rPr>
              <a:t>They will have developed 21st century technology and communication skills and demonstrated self-direction and social responsibilit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69800" y="668160"/>
            <a:ext cx="8458200" cy="2548080"/>
          </a:xfrm>
          <a:prstGeom prst="rect">
            <a:avLst/>
          </a:prstGeom>
          <a:ln w="0">
            <a:noFill/>
          </a:ln>
        </p:spPr>
      </p:pic>
      <p:sp>
        <p:nvSpPr>
          <p:cNvPr id="240" name="Subtitle 2"/>
          <p:cNvSpPr/>
          <p:nvPr/>
        </p:nvSpPr>
        <p:spPr>
          <a:xfrm>
            <a:off x="762120" y="388620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352680"/>
            <a:ext cx="85345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Blount County Schools Mission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o Maximize the Academic Potential of Every Child in a Safe and Personalized Environment. The BCS will graduate students who are college and career ready and prepared to meet the challenges of the 21st Century workpla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dobe Garamond Pro Bold"/>
              </a:rPr>
              <a:t>Through our STEM curriculum, we w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5000"/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dobe Garamond Pro Bold"/>
              </a:rPr>
              <a:t>develop the ability to analyze, synthesize and solve problems from which there are no routine solu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3" descr=""/>
          <p:cNvPicPr/>
          <p:nvPr/>
        </p:nvPicPr>
        <p:blipFill>
          <a:blip r:embed="rId1"/>
          <a:stretch/>
        </p:blipFill>
        <p:spPr>
          <a:xfrm>
            <a:off x="1600200" y="0"/>
            <a:ext cx="3886200" cy="30862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304920" y="990720"/>
            <a:ext cx="1600200" cy="1447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Picture 2" descr="Greek uc sigma.svg"/>
          <p:cNvPicPr/>
          <p:nvPr/>
        </p:nvPicPr>
        <p:blipFill>
          <a:blip r:embed="rId2"/>
          <a:stretch/>
        </p:blipFill>
        <p:spPr>
          <a:xfrm>
            <a:off x="4952880" y="1066680"/>
            <a:ext cx="11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Graph B: down on both ends"/>
          <p:cNvPicPr/>
          <p:nvPr/>
        </p:nvPicPr>
        <p:blipFill>
          <a:blip r:embed="rId3"/>
          <a:stretch/>
        </p:blipFill>
        <p:spPr>
          <a:xfrm>
            <a:off x="6095880" y="609480"/>
            <a:ext cx="2927520" cy="25146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6095880" y="685800"/>
            <a:ext cx="457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316160" y="976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68580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2.065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600200" y="36576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85800" y="3581280"/>
            <a:ext cx="7672320" cy="2311560"/>
          </a:xfrm>
          <a:prstGeom prst="rect">
            <a:avLst/>
          </a:prstGeom>
          <a:solidFill>
            <a:srgbClr val="c39b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9fb44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ollaboration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     Creativit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ritical Thinking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Communicati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elf-Confidence     Social Responsibilit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Straight Connector 2"/>
          <p:cNvSpPr/>
          <p:nvPr/>
        </p:nvSpPr>
        <p:spPr>
          <a:xfrm>
            <a:off x="2892600" y="125280"/>
            <a:ext cx="12189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Straight Connector 12"/>
          <p:cNvSpPr/>
          <p:nvPr/>
        </p:nvSpPr>
        <p:spPr>
          <a:xfrm>
            <a:off x="2892600" y="2922480"/>
            <a:ext cx="12189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Straight Connector 13"/>
          <p:cNvSpPr/>
          <p:nvPr/>
        </p:nvSpPr>
        <p:spPr>
          <a:xfrm flipV="1">
            <a:off x="4070520" y="1625400"/>
            <a:ext cx="12600" cy="1407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Straight Connector 17"/>
          <p:cNvSpPr/>
          <p:nvPr/>
        </p:nvSpPr>
        <p:spPr>
          <a:xfrm flipV="1">
            <a:off x="2892600" y="1625400"/>
            <a:ext cx="14040" cy="1407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Straight Connector 18"/>
          <p:cNvSpPr/>
          <p:nvPr/>
        </p:nvSpPr>
        <p:spPr>
          <a:xfrm flipV="1">
            <a:off x="4027320" y="110880"/>
            <a:ext cx="0" cy="103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Straight Connector 21"/>
          <p:cNvSpPr/>
          <p:nvPr/>
        </p:nvSpPr>
        <p:spPr>
          <a:xfrm flipV="1">
            <a:off x="2906640" y="91800"/>
            <a:ext cx="0" cy="103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Straight Connector 22"/>
          <p:cNvSpPr/>
          <p:nvPr/>
        </p:nvSpPr>
        <p:spPr>
          <a:xfrm>
            <a:off x="4041720" y="167940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Straight Connector 24"/>
          <p:cNvSpPr/>
          <p:nvPr/>
        </p:nvSpPr>
        <p:spPr>
          <a:xfrm>
            <a:off x="3995640" y="111744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Straight Connector 25"/>
          <p:cNvSpPr/>
          <p:nvPr/>
        </p:nvSpPr>
        <p:spPr>
          <a:xfrm>
            <a:off x="1995480" y="106668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Straight Connector 26"/>
          <p:cNvSpPr/>
          <p:nvPr/>
        </p:nvSpPr>
        <p:spPr>
          <a:xfrm>
            <a:off x="1995480" y="1673280"/>
            <a:ext cx="911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861080" y="1031760"/>
            <a:ext cx="0" cy="689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Straight Connector 32"/>
          <p:cNvSpPr/>
          <p:nvPr/>
        </p:nvSpPr>
        <p:spPr>
          <a:xfrm>
            <a:off x="2030400" y="998640"/>
            <a:ext cx="0" cy="689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3:41:10Z</dcterms:created>
  <dc:creator>Mark Andrews</dc:creator>
  <dc:description/>
  <dc:language>en-US</dc:language>
  <cp:lastModifiedBy>hhs student</cp:lastModifiedBy>
  <dcterms:modified xsi:type="dcterms:W3CDTF">2011-09-27T13:56:14Z</dcterms:modified>
  <cp:revision>60</cp:revision>
  <dc:subject/>
  <dc:title>Slide 1</dc:title>
</cp:coreProperties>
</file>